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971-3515-4B3E-A21D-5DA4386F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0E9-65E3-445F-A3CD-3BE3EE22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531-5E15-4C9A-8BC6-1771BCEE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D3F-1BBF-44E2-8F86-71F17A87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233-A046-4A2E-972A-4661C391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7E9-E2A5-430B-96D5-6A8E3094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6EA-42CE-4682-A5FD-F8B09F71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062-6276-4B3E-8B13-34B42B46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8CD-ADC5-45DF-9534-66DD9174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231-A9FB-4FA2-BA35-AB0270C8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5C6-58BE-4A24-AB6F-B795DA69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F42-A4FF-4670-988E-DD7F0727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160E-1225-4D0C-A573-3EF1CE5D5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008160" y="11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380880"/>
            <a:ext cx="5400720" cy="2810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Y SHOULD YOU RECYCLE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93356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ff"/>
              </a:buClr>
              <a:buFont typeface="Broadway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Broadway"/>
                <a:ea typeface="Times New Roman"/>
              </a:rPr>
              <a:t>TO KEEP THE PLAYGROUND CLEAN OF TR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Broadway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Broadway"/>
                <a:ea typeface="Times New Roman"/>
              </a:rPr>
              <a:t>TO PROTECT OUR WATERSHED AND OC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Broadway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Broadway"/>
                <a:ea typeface="Times New Roman"/>
              </a:rPr>
              <a:t>TO PROTECT  ANIMALS AND WILDLIFE FROM GETTING HURT ON TR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Broadway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Broadway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Broadway"/>
                <a:ea typeface="Times New Roman"/>
              </a:rPr>
              <a:t>SAVE OUR ENVIR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4:59:09Z</dcterms:created>
  <dc:creator>mes5c</dc:creator>
  <dc:description/>
  <dc:language>en-US</dc:language>
  <cp:lastModifiedBy>mes5c</cp:lastModifiedBy>
  <dcterms:modified xsi:type="dcterms:W3CDTF">2011-02-03T13:17:57Z</dcterms:modified>
  <cp:revision>2</cp:revision>
  <dc:subject/>
  <dc:title>Slide 1</dc:title>
</cp:coreProperties>
</file>